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png" ContentType="image/png"/>
  <Override PartName="/ppt/media/image8.wmf" ContentType="image/x-wmf"/>
  <Override PartName="/ppt/media/image9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93B1-CA69-4D6E-94EA-6C86F059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75A-2B4A-4FD7-8170-5550D03D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B2B-53E0-4B25-A7C5-B92F6E96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2D02-79E3-4BFF-92A9-6DA32E33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F59B-008E-4FC9-9DB0-F5C2738D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0AA-879F-48CB-9E81-5FCFB1FA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62B-0384-4637-9A27-D1AD3EDD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37A2-C881-4C79-9D0D-13480E2A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D1D-8A94-4732-B058-EFAA4F86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56EB-6272-4898-8355-C1AF77D5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250B-BAF3-4A97-BEBB-138FB0F8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F4D6-044F-437E-923D-B45A1074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3F88-4687-417A-8A69-19F52F445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535720" cy="863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3338640" cy="621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563868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6400800" cy="5307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48320" y="2133720"/>
            <a:ext cx="7617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666880"/>
            <a:ext cx="7621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3200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4724280"/>
            <a:ext cx="33530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6705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543800" cy="192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724280" y="1676520"/>
            <a:ext cx="9144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086600" cy="1603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723888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458200" cy="2562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57400" y="1219320"/>
            <a:ext cx="16765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209680"/>
            <a:ext cx="990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267000" cy="60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6019920" cy="12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34340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172200" cy="1198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666880" y="9144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914400"/>
            <a:ext cx="5331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74678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4:19:36Z</dcterms:created>
  <dc:creator>grahams</dc:creator>
  <dc:description/>
  <dc:language>en-US</dc:language>
  <cp:lastModifiedBy>grahams</cp:lastModifiedBy>
  <dcterms:modified xsi:type="dcterms:W3CDTF">2012-03-20T14:14:52Z</dcterms:modified>
  <cp:revision>2</cp:revision>
  <dc:subject/>
  <dc:title>Slide 1</dc:title>
</cp:coreProperties>
</file>